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B1EB-8B48-428B-921E-B336B9E97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ite space in the end contains enzymes where digestion has occ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91D-6296-4F29-90FD-0EA410D5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CB2-B443-4516-B032-A1D89C9F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099-EACC-4E8B-8A65-81793718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2C2-370C-49C3-B5FB-B9B90514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101-687D-495E-B96E-F081EBF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EC2-8154-4686-B4E1-347AAA9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B8E-0653-4691-AA6A-C2038FD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F95-37CE-4686-9833-F4D81973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364-F909-493D-9851-95FC74B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68A-BA00-426B-BF6C-303441B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B63-4642-4410-BB4F-6FDC407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931-C09B-4C7E-A53D-D12FF02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C0BE-047F-44E5-A1FF-0D633AFBF9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ellsalive.com/cells/bactcell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mp.berkeley.edu/bacteria/bacteriatem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opic 2.2 Prokaryotic Cell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inary Fission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karyotes divide by binary fission.  There are 4 main s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al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lication of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paration of 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paration of cytoplasm (cytokine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422440" cy="58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Practical and Homework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ok at the electron micrograph of a prokaryotic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a larger labelled diagram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uming the original specimen is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 long, calculate the magnification of your dra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 labels to show the relevant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notate your diagram to explain what each part does.  Use your class notes and </a:t>
            </a:r>
            <a:r>
              <a:rPr b="0" lang="en-GB" sz="28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http://www.cellsalive.com/cells/bactcell.ht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o help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0.htm24" descr=""/>
          <p:cNvPicPr/>
          <p:nvPr/>
        </p:nvPicPr>
        <p:blipFill>
          <a:blip r:embed="rId1"/>
          <a:srcRect l="0" t="0" r="51996" b="0"/>
          <a:stretch/>
        </p:blipFill>
        <p:spPr>
          <a:xfrm>
            <a:off x="2771640" y="47628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Types of Cell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can be simply split into two types based on their complex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are Prokaryotic Cells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st organisms to evol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 cel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.g.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all (1-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und everyw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3141720"/>
            <a:ext cx="2674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s the ribosome is 70 Svedberg's long.  Svedberg is a unit to measure cell organell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prokaryote"/>
          <p:cNvPicPr/>
          <p:nvPr/>
        </p:nvPicPr>
        <p:blipFill>
          <a:blip r:embed="rId1"/>
          <a:stretch/>
        </p:blipFill>
        <p:spPr>
          <a:xfrm>
            <a:off x="3419640" y="1484280"/>
            <a:ext cx="5400360" cy="4956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embrane 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ru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ribosomes (eukaryotes have 80S riboso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does each part do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Slime capsu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attachment, protection, food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Flagell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sgl Flagellum) –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Cell w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protein/carbohydrate complex – shape an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Plasma membra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substance entry and exi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b400"/>
                </a:solidFill>
                <a:latin typeface="Arial"/>
              </a:rPr>
              <a:t>Cytoplas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hat does each part do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Ribos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protei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Nucle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NA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Pil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ttachment and pro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ircles of DNA outside the nucleoid.  Can be exchanged (conjugation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lectron Micrograph of a Prokaryotic Cell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visible organelles – must be a prokaryot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oid is the lighter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rker area is the cytoplasm with ribosomes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3360"/>
            <a:ext cx="4200480" cy="475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Arial"/>
              </a:rPr>
              <a:t>Electron Micrograph of a Prokaryotic Cell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xample appears to have a grey shading around the edge.  These are the  p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oid is difficult to see in this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176720" cy="400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8:16:30Z</dcterms:created>
  <dc:creator>belindashorland</dc:creator>
  <dc:description/>
  <dc:language>en-US</dc:language>
  <cp:lastModifiedBy>belindashorland</cp:lastModifiedBy>
  <dcterms:modified xsi:type="dcterms:W3CDTF">2008-09-30T04:03:06Z</dcterms:modified>
  <cp:revision>7</cp:revision>
  <dc:subject/>
  <dc:title>Topic 2.2 Prokaryotic Cells</dc:title>
</cp:coreProperties>
</file>